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2958-666C-4947-B729-FD31A067F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C37E4-D729-4DD2-BF8F-768F8FB65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0361D-2749-4B11-ACB0-5D0B3A2CA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32D3-F905-45D2-9D1D-210266DDA4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3B0E-2EA3-4AA7-BAB9-BE131A2967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2047-6C87-44D1-A939-D116BB865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F68E-681A-4101-8AF9-4EE83EF69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0215-DD13-4928-8642-210015391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77760" y="545760"/>
            <a:ext cx="11049120" cy="105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8AF7-E059-4BBA-B795-E6525B03D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0586E-0D47-4C58-A6A4-860ED2EEA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29A2-3BE9-4672-8180-01CA57E00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3BD7-BFE2-4A6B-8E3D-7189C0591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0490040" y="8889840"/>
            <a:ext cx="3686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449C-845C-4E61-9FFE-FA0169EFD4B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Slide Number Placeholder 3"/>
          <p:cNvSpPr/>
          <p:nvPr/>
        </p:nvSpPr>
        <p:spPr>
          <a:xfrm>
            <a:off x="10490040" y="8889840"/>
            <a:ext cx="368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CB32-0EA3-480D-9C32-014EC3C1F78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279360" y="1292400"/>
          <a:ext cx="12445920" cy="8138880"/>
        </p:xfrm>
        <a:graphic>
          <a:graphicData uri="http://schemas.openxmlformats.org/drawingml/2006/table">
            <a:tbl>
              <a:tblPr/>
              <a:tblGrid>
                <a:gridCol w="2913120"/>
                <a:gridCol w="3386160"/>
                <a:gridCol w="3182760"/>
                <a:gridCol w="2963880"/>
              </a:tblGrid>
              <a:tr h="68076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72fd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ENCE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72fd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72fd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72fd"/>
                    </a:solidFill>
                  </a:tcPr>
                </a:tc>
              </a:tr>
              <a:tr h="12114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N Sportscast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 minute segm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 Arthur Ashe more influential on or off the cour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okeep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o visito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Cent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plight of the polar bears in an era of global warming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a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it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cl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Franklin’s New Deal communis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paper Report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itori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high gas prices good for the environmen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m Curat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o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are Picasso’s most important predecessors (influence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itor of </a:t>
                      </a:r>
                      <a:r>
                        <a:rPr b="0" i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gazin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Coldplay the new U2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0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cia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’t. agenc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decline in Buffalo: Where are they going, and wh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" name="Rectangle 110"/>
          <p:cNvSpPr/>
          <p:nvPr/>
        </p:nvSpPr>
        <p:spPr>
          <a:xfrm>
            <a:off x="1701720" y="76320"/>
            <a:ext cx="10642680" cy="110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quiry (Writing a Research Paper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ook”/Pre-Assess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1"/>
          <p:cNvSpPr/>
          <p:nvPr/>
        </p:nvSpPr>
        <p:spPr>
          <a:xfrm>
            <a:off x="6667200" y="9398160"/>
            <a:ext cx="563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ephen Shepherd, Sweet Home Central Middle School, Amherst, 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7760" y="1011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36200" y="2298600"/>
            <a:ext cx="11518920" cy="6934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ose one RAFT strip, based on which role and topic interests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cribe/outline some research steps that you (in your Role) would take in order to answer your ques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 three sources you would consult as you begin to answer your question. These might include specific print-based sources, web-based sources, audio/visual resources, people/experts, statistics, or historical docum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99880" y="800280"/>
          <a:ext cx="12298680" cy="8400960"/>
        </p:xfrm>
        <a:graphic>
          <a:graphicData uri="http://schemas.openxmlformats.org/drawingml/2006/table">
            <a:tbl>
              <a:tblPr/>
              <a:tblGrid>
                <a:gridCol w="3994200"/>
                <a:gridCol w="4133880"/>
                <a:gridCol w="4170600"/>
              </a:tblGrid>
              <a:tr h="4128840">
                <a:tc>
                  <a:txBody>
                    <a:bodyPr lIns="162720" rIns="162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hat do you think the author of this story wants you (the reader) to better understand after reading this story? How do you know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560" rIns="97560" tIns="0" bIns="0" anchor="t">
                      <a:noAutofit/>
                    </a:bodyPr>
                    <a:p>
                      <a:pPr algn="ctr"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  </a:t>
                      </a: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From whose point of view is this story told? How do you know?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560" marR="9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560" rIns="97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oes the author have a positive view or a negative view of the main characters? How do you know?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560" marR="9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2120">
                <a:tc>
                  <a:txBody>
                    <a:bodyPr lIns="97560" rIns="97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3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Where do you see “clues” in the story about what’s going to happen at the end?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560" marR="9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560" rIns="97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Choose one of the main characters in the story. How is this character MOST like you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Least like yo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560" marR="9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560" rIns="97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What challenges did the main characters in this story face? Did they overcome those challenges? How do you know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560" marR="9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Oval 2"/>
          <p:cNvSpPr/>
          <p:nvPr/>
        </p:nvSpPr>
        <p:spPr>
          <a:xfrm>
            <a:off x="2135160" y="4203720"/>
            <a:ext cx="2700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"/>
          <p:cNvSpPr/>
          <p:nvPr/>
        </p:nvSpPr>
        <p:spPr>
          <a:xfrm>
            <a:off x="6045120" y="3668760"/>
            <a:ext cx="2700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"/>
          <p:cNvSpPr/>
          <p:nvPr/>
        </p:nvSpPr>
        <p:spPr>
          <a:xfrm>
            <a:off x="6315120" y="3987720"/>
            <a:ext cx="268200" cy="31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"/>
          <p:cNvSpPr/>
          <p:nvPr/>
        </p:nvSpPr>
        <p:spPr>
          <a:xfrm>
            <a:off x="10067760" y="3884760"/>
            <a:ext cx="26856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"/>
          <p:cNvSpPr/>
          <p:nvPr/>
        </p:nvSpPr>
        <p:spPr>
          <a:xfrm>
            <a:off x="10336320" y="4203720"/>
            <a:ext cx="2682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"/>
          <p:cNvSpPr/>
          <p:nvPr/>
        </p:nvSpPr>
        <p:spPr>
          <a:xfrm>
            <a:off x="10604520" y="4522680"/>
            <a:ext cx="268200" cy="3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"/>
          <p:cNvSpPr/>
          <p:nvPr/>
        </p:nvSpPr>
        <p:spPr>
          <a:xfrm>
            <a:off x="1866960" y="8104320"/>
            <a:ext cx="2682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"/>
          <p:cNvSpPr/>
          <p:nvPr/>
        </p:nvSpPr>
        <p:spPr>
          <a:xfrm>
            <a:off x="2270160" y="8104320"/>
            <a:ext cx="2682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"/>
          <p:cNvSpPr/>
          <p:nvPr/>
        </p:nvSpPr>
        <p:spPr>
          <a:xfrm>
            <a:off x="2270160" y="8582040"/>
            <a:ext cx="2682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2"/>
          <p:cNvSpPr/>
          <p:nvPr/>
        </p:nvSpPr>
        <p:spPr>
          <a:xfrm>
            <a:off x="1866960" y="8562960"/>
            <a:ext cx="2682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"/>
          <p:cNvSpPr/>
          <p:nvPr/>
        </p:nvSpPr>
        <p:spPr>
          <a:xfrm>
            <a:off x="5911920" y="7945560"/>
            <a:ext cx="2682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"/>
          <p:cNvSpPr/>
          <p:nvPr/>
        </p:nvSpPr>
        <p:spPr>
          <a:xfrm>
            <a:off x="6448320" y="7945560"/>
            <a:ext cx="2700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"/>
          <p:cNvSpPr/>
          <p:nvPr/>
        </p:nvSpPr>
        <p:spPr>
          <a:xfrm>
            <a:off x="6180120" y="8264520"/>
            <a:ext cx="268200" cy="31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"/>
          <p:cNvSpPr/>
          <p:nvPr/>
        </p:nvSpPr>
        <p:spPr>
          <a:xfrm>
            <a:off x="5911920" y="8582040"/>
            <a:ext cx="2682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"/>
          <p:cNvSpPr/>
          <p:nvPr/>
        </p:nvSpPr>
        <p:spPr>
          <a:xfrm>
            <a:off x="6448320" y="8582040"/>
            <a:ext cx="2700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"/>
          <p:cNvSpPr/>
          <p:nvPr/>
        </p:nvSpPr>
        <p:spPr>
          <a:xfrm>
            <a:off x="11309400" y="7785000"/>
            <a:ext cx="270000" cy="3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"/>
          <p:cNvSpPr/>
          <p:nvPr/>
        </p:nvSpPr>
        <p:spPr>
          <a:xfrm>
            <a:off x="11657160" y="7785000"/>
            <a:ext cx="269640" cy="3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"/>
          <p:cNvSpPr/>
          <p:nvPr/>
        </p:nvSpPr>
        <p:spPr>
          <a:xfrm>
            <a:off x="11657160" y="8244000"/>
            <a:ext cx="26964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"/>
          <p:cNvSpPr/>
          <p:nvPr/>
        </p:nvSpPr>
        <p:spPr>
          <a:xfrm>
            <a:off x="11309400" y="8244000"/>
            <a:ext cx="2700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"/>
          <p:cNvSpPr/>
          <p:nvPr/>
        </p:nvSpPr>
        <p:spPr>
          <a:xfrm>
            <a:off x="11309400" y="8723160"/>
            <a:ext cx="270000" cy="31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"/>
          <p:cNvSpPr/>
          <p:nvPr/>
        </p:nvSpPr>
        <p:spPr>
          <a:xfrm>
            <a:off x="11657160" y="8723160"/>
            <a:ext cx="269640" cy="31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1168560" y="0"/>
            <a:ext cx="10515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Story Discussion (Generic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4"/>
          <p:cNvSpPr/>
          <p:nvPr/>
        </p:nvSpPr>
        <p:spPr>
          <a:xfrm>
            <a:off x="9271080" y="9315360"/>
            <a:ext cx="74674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ssica Hockett (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hrissi Ritzius</cp:lastModifiedBy>
  <dcterms:modified xsi:type="dcterms:W3CDTF">2010-06-24T21:06:14Z</dcterms:modified>
  <cp:revision>2</cp:revision>
  <dc:subject/>
  <dc:title>Slide 1</dc:title>
</cp:coreProperties>
</file>